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B99-EE1E-4102-A7A1-E120A0B2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F47-72A8-4285-98AE-614C045A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EE7-617D-4CF0-ADF8-D0949FB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5D5-9C8C-4FF3-8E8A-5A575260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A1C8-86DF-4CD7-8484-E9FDA484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9BE-94B4-4475-A0CC-A1FA6D7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2CFB-1C05-4EB1-AACA-56494FC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9AF-B779-4B38-84F6-EC005FC9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DD9-673C-48E7-ADC1-91DFE7A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806A-3E2F-4641-8109-BF085EB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55EC-8C25-4A4A-BD5F-EED991E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A6D-3CCC-4F7D-8EBB-D19327A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B35-3A14-48D6-A599-EE16D31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B175-AE32-4C6A-85D9-BEDEC6BE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BB6-5F0C-4408-B55F-51D51D25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D39-F0EB-48EE-81C6-AD6950CE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7EB-16E8-4683-820C-D4383FF7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4619-716A-4463-8102-72B62FF9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75E3-A1DE-4196-9D8B-556A47F5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CC9A-B80B-4785-AC38-C7B4880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9D70-DD95-4DC8-A798-FA932345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8E20-E116-49D9-B629-AD209F0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DA5-81A0-4E1E-9C83-30FA5AC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E353-E062-4ECD-9256-0B1A9CC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4DCB-8C6D-4518-8C65-A7760D0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13CB-13A6-4D0C-A6CA-32CD1C5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8389-A9EC-4208-B758-E254777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447D-B0F0-4687-A083-BA83350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6051-2B40-4FE2-8BEB-97A51CCD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E1BA-DDA3-4C35-863E-C1C6B358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E610-3711-4D1E-8FFB-00AC34D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977C-D0AC-4DF9-9569-79DD1BC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8E0D-D344-464C-B00B-E2AB996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DB1-C8B0-42AB-86FF-B6F8C576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A4A9-EA89-4A36-82DC-1C82853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85EC-03D0-4E8A-BE87-F192698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3B88-B6DB-41F3-9BC7-5299EA4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B22F-78F1-469B-ADA7-F710188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6120-D1F9-49DC-B3E0-7C1E538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C328-01A3-4370-9C7F-E7342E7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753A-C49B-4FA7-AD60-F2DB5A8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C4E5-4870-43E2-A5DD-CA2D5123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58D3-CB8E-4AC3-8302-9B5FAE3B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DED-7E43-43CC-AE92-358D5B8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385-0476-4366-93A5-33456E8E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5C3-1910-440D-B1DF-D9BF2F7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ECD-B758-456F-9E67-66F4037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544-B9EF-4E35-9464-026B8F5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BD9-296C-458A-90DD-DBBC6D6EC9B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0618-16C0-4DCF-AEA4-F5F4CE1659E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7E4-2BE5-4783-8CE4-59EC4A2DD45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AC1-E8D1-4D21-ACF5-7E0EE75FB4A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85680" y="1365120"/>
            <a:ext cx="9472680" cy="192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и учащиеся 10 класс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уппа «Историки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Admin\Рабочий стол\У Коли\Картинки\03.png"/>
          <p:cNvPicPr/>
          <p:nvPr/>
        </p:nvPicPr>
        <p:blipFill>
          <a:blip r:embed="rId3"/>
          <a:stretch/>
        </p:blipFill>
        <p:spPr>
          <a:xfrm rot="21265800">
            <a:off x="356760" y="4000320"/>
            <a:ext cx="2540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4542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3857760" y="2838600"/>
            <a:ext cx="5286240" cy="4019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4714920" y="0"/>
            <a:ext cx="3457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onstantia"/>
              </a:rPr>
              <a:t>Благодаря истинному знанию ты будешь гораздо смелее и совершеннее в каждой работе, нежели без него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00"/>
                </a:solidFill>
                <a:latin typeface="Constantia"/>
              </a:rPr>
              <a:t>Альбрехт Дюр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константах написано очень много интересных фактов, константы вовсю используются в искусстве, в живописи и т.п. В честь числа Пи организуют праздники, об этом числе поставлен фильм. По запоминанию цифр в этих числах ставят рекорды. В честь создателей констант называют различные события и объек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Documents and Settings\Admin\Рабочий стол\У Коли\Картинки\213.gif"/>
          <p:cNvPicPr/>
          <p:nvPr/>
        </p:nvPicPr>
        <p:blipFill>
          <a:blip r:embed="rId2"/>
          <a:stretch/>
        </p:blipFill>
        <p:spPr>
          <a:xfrm>
            <a:off x="5786280" y="4357800"/>
            <a:ext cx="202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Цель: Ответить на вопрос «Чем знамениты константы?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ширение знаний о констант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яснение интересных фактов о констант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тие речи, мышления и способности наблюдать и делать вы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Admin\Рабочий стол\У Коли\Картинки\06.jpg"/>
          <p:cNvPicPr/>
          <p:nvPr/>
        </p:nvPicPr>
        <p:blipFill>
          <a:blip r:embed="rId2"/>
          <a:stretch/>
        </p:blipFill>
        <p:spPr>
          <a:xfrm>
            <a:off x="4929120" y="4286160"/>
            <a:ext cx="37814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главл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. О числе </a:t>
            </a:r>
            <a:r>
              <a:rPr b="0" lang="el-GR" sz="54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. О числе 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3. О Золотом сечени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. Вывод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Documents and Settings\Admin\Рабочий стол\У Коли\Картинки\default.jpeg"/>
          <p:cNvPicPr/>
          <p:nvPr/>
        </p:nvPicPr>
        <p:blipFill>
          <a:blip r:embed="rId2"/>
          <a:stretch/>
        </p:blipFill>
        <p:spPr>
          <a:xfrm>
            <a:off x="6072120" y="1000080"/>
            <a:ext cx="2465280" cy="1285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Admin\Рабочий стол\У Коли\Картинки\16.jpg"/>
          <p:cNvPicPr/>
          <p:nvPr/>
        </p:nvPicPr>
        <p:blipFill>
          <a:blip r:embed="rId3"/>
          <a:stretch/>
        </p:blipFill>
        <p:spPr>
          <a:xfrm rot="557400">
            <a:off x="707184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428760"/>
            <a:ext cx="91533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7920" y="428760"/>
            <a:ext cx="91360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 числе 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-20520" y="857160"/>
            <a:ext cx="91645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C:\Documents and Settings\Admin\Рабочий стол\У Коли\Картинки\20.jpg"/>
          <p:cNvPicPr/>
          <p:nvPr/>
        </p:nvPicPr>
        <p:blipFill>
          <a:blip r:embed="rId2"/>
          <a:stretch/>
        </p:blipFill>
        <p:spPr>
          <a:xfrm>
            <a:off x="6678720" y="4973760"/>
            <a:ext cx="2465280" cy="18842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 Золотом сечен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●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ще в 1925 году искусствовед Л.Л.Сабанее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в 1770 музыкальных произведений 42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ов, показал, что подавляющее большинств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ающихся сочинений можно легко разделить на ча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ли по теме, или по интонационному строю, или п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довому строю, которые находятся между собой 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ношении золотого сеч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ем, чем талантливее композитор, тем в больше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ичестве его произведений найдено золотых сечен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Аренского, Бетховена, Бородина, Гайдна, Моцарт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рябина, Шопена и Шуберта золотые сечения найд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90% всех произведений. По мнению Сабанеев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лотое сечение приводит к впечатлению особ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йности музыкального сочин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 кино С. Эйзенштейн искусственно построил фильм Броненосец Потёмкин по правилам «золотого сечения». Он разбил ленту на пять частей. В первых трёх действие разворачивается на корабле. В двух последних — в Одессе, где разворачивается восстание. Этот переход в город происходит точно в точке золотого сечения. Да и в каждой части есть свой перелом, происходящий по закону золотого с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только египетские пиpамиды постpоены в соответствии с совеpшенными пpопоpциями золотого сечения; то же самое явление обнаpужено и у мексиканских пиpами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ая пропорция применялась многими античными скульпторами. Известна золотая пропорция статуи Аполлона Бельведерского: рост изображенного человека делится пупочной линией в золотом сеч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еходя к примерам ”золотого сечения” в живописи, нельзя не остановить своего внимания на творчестве Леонардо да Винч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3:59Z</dcterms:created>
  <dc:creator>Admin</dc:creator>
  <dc:description/>
  <dc:language>en-US</dc:language>
  <cp:lastModifiedBy>User</cp:lastModifiedBy>
  <dcterms:modified xsi:type="dcterms:W3CDTF">2011-06-01T05:08:19Z</dcterms:modified>
  <cp:revision>21</cp:revision>
  <dc:subject/>
  <dc:title>А смысл есть?</dc:title>
</cp:coreProperties>
</file>